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52D-94C9-4F2C-BE1E-8B2A4F73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76D-A808-404A-A34A-93E55223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CAE-E924-4B23-9DC4-2C6959DC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666-4505-43C3-8646-8C3749CD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73DE-BCAF-4116-83AD-D39D8360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FD7-2908-4CBA-BFF1-0CDEC4F9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5931-09DF-44AD-9411-7D450E0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B89C-5250-47FF-942E-90E8A91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690-6192-47CE-9BCC-06B188C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159-C3FC-41AB-AB9F-5D7A4117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E427-5F61-43ED-9570-DC9602D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F0B-459A-45A5-A158-8BA3416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EBA7-265A-4514-9D31-7D5FDE4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9EF9-11C6-4A9B-90D8-F02B89A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393-69DF-476E-8AB8-A652383C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E107-1148-4664-BCFA-7E255CE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5806-FD3D-40E1-B9CC-1C05178F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B0B-A9FF-45F1-B04E-9A770858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323-6A07-445A-B4B8-0B418050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97B-CDCF-47FA-A57D-7CAC1D90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E1E-9D8D-4DE6-98B5-884355D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43E-B5D3-4A3B-8806-F985B7D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F8-05EC-4203-96EF-769CA64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EB3-CA08-458B-AD60-E9D0E2B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6FFB-F740-48A4-9624-F8F5543884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B8E-788F-411C-A638-887E65B2F2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0" y="4653000"/>
            <a:ext cx="831708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وح يجمعن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128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00720" y="-579240"/>
            <a:ext cx="4500360" cy="78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ماءُ ما صارَ الطحينُ خبز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روح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أصبح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ُكنى الله</a:t>
            </a:r>
            <a:r>
              <a:rPr b="1" lang="ar-LB" sz="6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88720" y="450864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-649080"/>
            <a:ext cx="900108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زيتُ ما أعطى السراجُ نوراً لولا الروحُ ما فرشنا نورَ ا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7440" y="448632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-2158560"/>
            <a:ext cx="4284720" cy="106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حبُ ما كان القلبُ حياً لولا الروحُ ما عرفنا حبّ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280" y="458136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130120" y="465300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3456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نورُ ما أعطى الوردُ عطراً لولا الروحُ ما نثرنا عطر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07:32Z</dcterms:created>
  <dc:creator>Charbel Azar</dc:creator>
  <dc:description/>
  <dc:language>en-US</dc:language>
  <cp:lastModifiedBy>ف</cp:lastModifiedBy>
  <dcterms:modified xsi:type="dcterms:W3CDTF">2006-06-05T21:07:23Z</dcterms:modified>
  <cp:revision>11</cp:revision>
  <dc:subject/>
  <dc:title>Slide 1</dc:title>
</cp:coreProperties>
</file>